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6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5ACD-78B3-4D40-8EF5-4BDF018F7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Cycle and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Cycle and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DNA mutations, cancer cells cannot communicate with neighboring cells. Cells continue to grow and form tum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cer cells dividing: click on pictur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DNA mutations, cancer cells cannot communicate with neighboring cells. Cells continue to grow and form tum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cer cells dividing: click on pictur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replicated proper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hemical signals start and stop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ells communicate with each other  so they don’t become overcrow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occur in the DNA when it is repli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hemical signals that start and stop the cell cycle are ign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ells do not communicate with each other and tumors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replicated proper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hemical signals start and stop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ells communicate with each other  so they don’t become overcrow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occur in the DNA when it is repli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hemical signals that start and stop the cell cycle are ign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ells do not communicate with each other and tumors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ing Can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treatments include drugs that can stop cancer cells from divi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ing Can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treatments include drugs that can stop cancer cells from divi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s of the Cell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Click on picture for cell cycle anima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go to www.cancerquest.or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Use alt-tab keys to go between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ower point pres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lick on blank space to proceed to next slid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s of the Cell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Click on picture for cell cycle anima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go to www.cancerquest.or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Use alt-tab keys to go between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ower point pres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lick on blank space to proceed to next slid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several factors that regulate the cell cycle and assure a cell divides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Before a cell divides, the DNA is checked   to make sure it has replicated correctly. (If DNA does not copy itself correctly, a gene mutation occ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replication animation:click on DNA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several factors that regulate the cell cycle and assure a cell divides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Before a cell divides, the DNA is checked   to make sure it has replicated correctly. (If DNA does not copy itself correctly, a gene mutation occ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replication animation:click on DNA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Chemical Signals tell a cell when to start and stop dividing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arget cells animation: click on go s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Chemical Signals tell a cell when to start and stop dividing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arget cells animation: click on go s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ghboring cells communicate with dividing cells to regulate their growth al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rmal contact inhibition animation: click on petri dis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ghboring cells communicate with dividing cells to regulate their growth al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rmal contact inhibition animation: click on petri dis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is a disease of the cell cycle.  Some of the body’s cells divide uncontrollably and tumors for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ors in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or in Co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is a disease of the cell cycle.  Some of the body’s cells divide uncontrollably and tumors for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ors in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or in Co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mutations disrupt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may be caus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mo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ollu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chemical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mutations disrupt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may be caus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mo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ollu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chemical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normal cells will stop dividing if there is a mutation in the DNA, cancer cells will continue to divide with mu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normal cells will stop dividing if there is a mutation in the DNA, cancer cells will continue to divide with mu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DNA mutations, cancer cells ignore the chemical signals that start and stop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imations of cancer cells dividing: click on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DNA mutations, cancer cells ignore the chemical signals that start and stop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imations of cancer cells dividing: click on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0D4B-F2DB-4B32-8A2E-0E9E6E2B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2C09-6F63-40E1-94AE-A38B1BE0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7B70-D3B8-4D2B-BDF4-26138AFB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6793-5C93-4BAA-8A27-E32D2AE19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73DE-CD00-4EA3-B36F-EB1D33D3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66BA-D2C0-4B14-8BBD-528C76DA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28BF-3336-4134-9703-AE8DF4A1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C9E9-C12F-444B-AF8A-7CFD1E06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B8A3-9AAB-44A3-8975-E8208932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C17C-D6E1-4075-9BC1-2E0A6631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1767-1B6A-4F5C-A99F-E3E09D9C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EE84-44D5-4A9C-A16F-B6C3DC90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0E99-3994-4DF4-AF88-2792BCD00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The Cell Cycle and Can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cycle"/>
          <p:cNvPicPr/>
          <p:nvPr/>
        </p:nvPicPr>
        <p:blipFill>
          <a:blip r:embed="rId1"/>
          <a:stretch/>
        </p:blipFill>
        <p:spPr>
          <a:xfrm>
            <a:off x="609480" y="1981080"/>
            <a:ext cx="3619800" cy="360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5"/>
          <p:cNvPicPr/>
          <p:nvPr/>
        </p:nvPicPr>
        <p:blipFill>
          <a:blip r:embed="rId2"/>
          <a:stretch/>
        </p:blipFill>
        <p:spPr>
          <a:xfrm>
            <a:off x="5181480" y="1752480"/>
            <a:ext cx="2819520" cy="1976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18"/>
          <p:cNvPicPr/>
          <p:nvPr/>
        </p:nvPicPr>
        <p:blipFill>
          <a:blip r:embed="rId3"/>
          <a:stretch/>
        </p:blipFill>
        <p:spPr>
          <a:xfrm>
            <a:off x="5867280" y="3962520"/>
            <a:ext cx="2667240" cy="186696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DNA mutations, cancer cells cannot communicate with neighboring cells. Cells continue to grow and form tum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429000" y="6019920"/>
            <a:ext cx="268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ancer cells dividing: click on picture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1"/>
          <a:stretch/>
        </p:blipFill>
        <p:spPr>
          <a:xfrm>
            <a:off x="2390760" y="1795320"/>
            <a:ext cx="4362480" cy="3267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3946680" y="5141880"/>
            <a:ext cx="161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3352680" y="510552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in c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8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Normal Cel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DNA is replicated prope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2. Chemical signals start and stop the cell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3. Cells communicate with each other  so they don’t become overcrow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Canc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Mutations occur in the DNA when it is replic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2. Chemical signals that start and stop the cell cycle are igno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3. Cells do not communicate with each other and tumors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304920" y="380880"/>
            <a:ext cx="845820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Treating Canc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cer treatments include drugs that can stop cancer cells from divi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cycle"/>
          <p:cNvPicPr/>
          <p:nvPr/>
        </p:nvPicPr>
        <p:blipFill>
          <a:blip r:embed="rId1"/>
          <a:stretch/>
        </p:blipFill>
        <p:spPr>
          <a:xfrm>
            <a:off x="2743200" y="2743200"/>
            <a:ext cx="3809880" cy="37893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s of the Cell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cell"/>
          <p:cNvPicPr/>
          <p:nvPr/>
        </p:nvPicPr>
        <p:blipFill>
          <a:blip r:embed="rId1"/>
          <a:stretch/>
        </p:blipFill>
        <p:spPr>
          <a:xfrm>
            <a:off x="1676520" y="1600200"/>
            <a:ext cx="3467160" cy="31622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>
            <a:off x="5325120" y="4952880"/>
            <a:ext cx="347256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Click on picture for cell cycle anima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go to www.cancerquest.or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Us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t-ta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eys to go between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ower point pres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lick on blank space to proceed to next slid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everal factors that regulate the cell cycle and assure a cell divides corre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1.Before a cell divides, the DNA is checked   to make sure it has replicated correctly. (If DNA does not copy itself correctly, a gen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utation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occu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5410080" y="2895480"/>
            <a:ext cx="3124440" cy="2030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5775480" y="5751360"/>
            <a:ext cx="260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5867280" y="60199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 replication animation:click on DNA 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Chemical Signals tell a cell when to start and stop dividing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2436840" cy="3443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3505320" y="5791320"/>
            <a:ext cx="304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arget cells animation: click on go sig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2"/>
          <a:stretch/>
        </p:blipFill>
        <p:spPr>
          <a:xfrm>
            <a:off x="5194440" y="2286000"/>
            <a:ext cx="2317680" cy="32767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ghboring cells communicate with dividing cells to regulate their growth al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346480" y="5943600"/>
            <a:ext cx="455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rmal contact inhibition animation: click on petri di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2857320" cy="26859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anc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sease of the cell cyc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Some of the body’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vide uncontrollab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um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mors in L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mor in Co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Liver_cancer_nodular_hodgkins_metast_liver_cancer"/>
          <p:cNvPicPr/>
          <p:nvPr/>
        </p:nvPicPr>
        <p:blipFill>
          <a:blip r:embed="rId1"/>
          <a:stretch/>
        </p:blipFill>
        <p:spPr>
          <a:xfrm>
            <a:off x="990720" y="3581280"/>
            <a:ext cx="3009960" cy="2657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19222"/>
          <p:cNvPicPr/>
          <p:nvPr/>
        </p:nvPicPr>
        <p:blipFill>
          <a:blip r:embed="rId2"/>
          <a:stretch/>
        </p:blipFill>
        <p:spPr>
          <a:xfrm>
            <a:off x="4876920" y="320040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mutations disrupt the cell cy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3434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Mutations may be caused b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1. ra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2. smo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3. Pollut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4. chemical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5. vir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dna-mutation"/>
          <p:cNvPicPr/>
          <p:nvPr/>
        </p:nvPicPr>
        <p:blipFill>
          <a:blip r:embed="rId1"/>
          <a:stretch/>
        </p:blipFill>
        <p:spPr>
          <a:xfrm>
            <a:off x="152280" y="2514600"/>
            <a:ext cx="4953240" cy="24336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normal cells will stop dividing if there is a mutation in the DNA, cancer cells will continue to divide with mu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norm_cancer"/>
          <p:cNvPicPr/>
          <p:nvPr/>
        </p:nvPicPr>
        <p:blipFill>
          <a:blip r:embed="rId1"/>
          <a:stretch/>
        </p:blipFill>
        <p:spPr>
          <a:xfrm>
            <a:off x="5410080" y="1752480"/>
            <a:ext cx="2552760" cy="1552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Understanding Cancer"/>
          <p:cNvPicPr/>
          <p:nvPr/>
        </p:nvPicPr>
        <p:blipFill>
          <a:blip r:embed="rId2"/>
          <a:stretch/>
        </p:blipFill>
        <p:spPr>
          <a:xfrm>
            <a:off x="1143000" y="1828800"/>
            <a:ext cx="2857680" cy="4276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getImage"/>
          <p:cNvPicPr/>
          <p:nvPr/>
        </p:nvPicPr>
        <p:blipFill>
          <a:blip r:embed="rId3"/>
          <a:stretch/>
        </p:blipFill>
        <p:spPr>
          <a:xfrm>
            <a:off x="4952880" y="3581280"/>
            <a:ext cx="3724560" cy="24289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DNA mutations, cancer cells ignore the chemical signals that start and stop the cell cy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583280" y="5638680"/>
            <a:ext cx="43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animations of cancer cells dividing: click on pic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038840" cy="27194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9T13:24:33Z</dcterms:created>
  <dc:creator>Tim Lally</dc:creator>
  <dc:description/>
  <dc:language>en-US</dc:language>
  <cp:lastModifiedBy>LEGION2</cp:lastModifiedBy>
  <dcterms:modified xsi:type="dcterms:W3CDTF">2016-01-14T11:27:30Z</dcterms:modified>
  <cp:revision>81</cp:revision>
  <dc:subject/>
  <dc:title>The Cell Cycle and Cancer</dc:title>
</cp:coreProperties>
</file>